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215640" y="812520"/>
            <a:ext cx="711684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02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02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EA09F-2EF8-44CF-AFC6-7151706389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56B72-C27D-4FED-8659-4D524D738B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B49EA-23C6-4558-89FA-83285C7A02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C2350-E762-44CC-8104-FA9871C244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932A3-15DA-4895-A70D-5F74BC923D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7B51D-4E4B-40F4-BE5B-A822ECD39F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F69EA-F87D-4FA5-B92A-FDED7DB5BF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FE97C-E000-46AA-ABFB-1C9687BD8D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63924-7B5A-479C-9CF4-0C758C56C8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47B1A-E5B2-4E81-8D95-C2CB80B8AB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1DFFD-BBEF-4314-BAB2-0A5D2041C8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CC548-FA3D-4FEC-B990-A7804076CB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0CB29-EA72-445F-8EA2-80661F06C8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00D16-BBA3-45F0-B6AB-2AD8746CC2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3AC97-555D-41E6-8093-6AC2D88524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E2A-AA63-40DC-8AA2-39D430DF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597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38400"/>
            <a:ext cx="90597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BB5B-AE4D-4727-B774-7B100654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E9A-CE85-42F5-A9A6-57F7D84D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32696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32696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3840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303840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303840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AB1-4EF7-403F-ACF7-0D7D55F5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597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5B8-07BB-4202-B33F-79AF02C7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597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C44-7365-460D-B9A7-D6AD6393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257-9FA3-46AD-B53B-36D9A9EE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FA9-1979-4F5F-8F30-D6F8B444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5976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96D-0747-46EC-A70E-D7C7BC5F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D6AF-A103-4BC9-8361-CCF6F2BE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EB0-9C47-47A8-B663-34FBE35B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38400"/>
            <a:ext cx="90597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AB4-2EDC-4897-A519-6EDC46C2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597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4000"/>
          </a:bodyPr>
          <a:p>
            <a:pPr marL="25380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367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845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371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D31E4A-E427-4D72-A623-DB15939690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mant/" TargetMode="External"/><Relationship Id="rId3" Type="http://schemas.openxmlformats.org/officeDocument/2006/relationships/hyperlink" Target="http://www.w3.or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720360"/>
            <a:ext cx="907092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онтологий для анализа функционального описания терминала Р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04720" y="3600360"/>
            <a:ext cx="907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Петров С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ЗА-Форум, Чебоксары 20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МТ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тупень МТ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измерительный орг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уставка срабаты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эффициент возвр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2920" y="728280"/>
            <a:ext cx="907092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коэффициент возврата» часть «измерительный орган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уставка срабатывания» часть «измерительный орган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измерительный орган» часть «ступень МТЗ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ступень МТЗ» часть «МТЗ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занят своим дел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ксперт ПрО описывает ПрО и онтолог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программист разрабатывает П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 РЭ по эксплуатации терминала БЭ2502.А02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Р ИСО/МЭК 21838-1-20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тологическое моделирование предприятий: методы и технологии. Уральский университет 20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шков С. Введение в онтологическое моделирование. ООО «ТриниДат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хун Я. А. Онтологии в системах, основанных на знаниях: возможности их при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02920" y="720720"/>
            <a:ext cx="907092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а эксперта предметной области (ПрО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исание П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 выполнения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технические требования (ТТ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техническое задание (ТЗ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функциональное описание устрой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и программ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изучение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анализ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заимодействие с экспертом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разработка П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тат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ремя на взаимодействие с экспертом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озможное неверное толкование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недопонимание описания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 устранения недостат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минимизация участия программиста в анали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 (в идеале исключени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анализ ПрО при помощи онт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тология есть артефакт на основе терминов и отношений, выраженных с использованием естественного языка. В то же время онтология есть артефакт, предназначенный для использования компьют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Р ИСО/МЭК 21838-1-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тология содействует обеспечению смыслового обмена, т. к. её термины связаны с формальными определениями значений, представленных таким образом, чтобы их можно было обрабатывать вычислительными систе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Р ИСО/МЭК 21838-1-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ПрО при помощи онтологий включ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декомпозиция ПрО (выявление сущностей Пр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описание свойств сущностей ПрО (определение  функциональных свойств сущнос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ыявление связей сущностей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ПрО*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ТЗ. МТЗ имеет три ступени: МТЗ-1, МТЗ-2, МТЗ-3. Каждая из ступеней представляет собой совокупность нескольких измерительных органов (ИО), объединенных общей логикой. Каждый ИО МТЗ имеет независимую регулируемую уставку срабатывания и коэффициент возв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738360"/>
            <a:ext cx="90709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esource description framework (RDF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owl:DatatypeProperty rdf:about="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eman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icweb.org/barmaley/ontologies/2024/3/untitled-ontol ogy-2#MTZ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rdfs:subPropertyOf rdf:resource="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w3.o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g/2002/07/owl#topDataProperty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/owl:DatatypeProperty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23T17:30:41Z</dcterms:created>
  <dc:creator/>
  <dc:description/>
  <dc:language>en-US</dc:language>
  <cp:lastModifiedBy>s.v.petrov</cp:lastModifiedBy>
  <dcterms:modified xsi:type="dcterms:W3CDTF">2024-04-24T05:15:18Z</dcterms:modified>
  <cp:revision>43</cp:revision>
  <dc:subject/>
  <dc:title>      ФГБОУ ВО ЧГУ им. И.Н. Ульянова</dc:title>
</cp:coreProperties>
</file>